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836-C4FB-42E1-A96C-FD937B62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CD3-F77C-45A9-9449-A90CE069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1A7-96E9-47AC-93E5-F4038055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871-05CB-424C-AE4C-F07CC230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178-D110-4588-A2C9-B9A06DD2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F14-B877-436B-82BE-F310C12A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797-A29B-45EF-B98C-89E44A99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D85-ACA9-4AC9-9546-40E582DD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D52-9F95-42F1-B252-138B2184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A98-7274-4D14-9F87-ACAB7461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FB69-58BC-4531-9094-3C5F4CF3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8B2-63C1-4E8B-970C-40382097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C133-046E-4F71-9439-EC1C20CE0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IrFm0u2l84&amp;feature=related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orte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Forte"/>
              </a:rPr>
              <a:t>The Scarlet Letter”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238140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arlet Letter takes place in the seventeenth century Boston, which was then a Puritan sett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young woman Hester Prynne is escorted, from the town prison with her infant daughter Pear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ter committed the sin of adultery, and refused to give the name of the man who she committed adultery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 Overview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ster wears the scarlet letter over her bosom for punishment and stands on the scaffold, to be publicly shamed and humili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ster’s Roger Chillingworth lived in Europe at the time of Hester’s sin of adultery, disguises himself as a doctor to discover Hester’s secret of who she committed the sin wi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mesd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d the sin of adultery with He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eals with the impact of his sin by punishing himself physically and psychological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_IrFm0u2l84&amp;feature=rel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s, Symbols, Mo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, Evil,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Sin in the no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ster wears the Scarlet Letter upon her bosom has a punishment for her sin of adult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ster’s daughter Pearl is portrayed as a mischievous child, townspeople believe her father is the dev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ages in odd behavior dealing with her mother’s scarlet letter upon her bo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ants eyes had been caught by a glimmering of the gold embroidery about the letter; and, putting up her little hand, she grasped at it smiling, not doubtfully, but with a decided gleam that gave her the look of a much older child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arlet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t to be viewed as a symbol of shame, however throughout the novel the symbol became a symbol of identity to H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light and graceful foliage of her character had been withered away up by this red hot brand, and had long ago fallen away, leaving a bare and harsh outline, which might have been repulsive, had she possessed friends or companions to be repelled by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rl is a symbol of the consequence of her mothers sin and the reason Hester decided to l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rl” as being of great price, purchased with all she had,- her mother’s only treasure!.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ht Versus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light exposes Hester’s activities to make her more vulnerable to punish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they have doomed Mistress Prynne to stand only a space of three hours on the pillory…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ht conceals activities that would not be possible throughout the 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us while standing on the scaffold, in this vain show of expiation, Mr. Dimmesdale was overcome with a great horror of mind, as if the universe were gazing at a scarlet token on his naked breast, right over his he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mesdale was able to relieve the guilt of his sin without public shame by shaming himself upon the scaffold at night where no one could be a witness to his punishment he inflicted upon himsel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kxOyIDi6R4I&amp;feature=rel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The_Scarlet_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s http://www.youtube.com/watch?v=kxOyIDi6R4I&amp;feature=re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v=_IrFm0u2l84&amp;feature=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0:05:18Z</dcterms:created>
  <dc:creator>Kate</dc:creator>
  <dc:description/>
  <dc:language>en-US</dc:language>
  <cp:lastModifiedBy>aphs.shubertab</cp:lastModifiedBy>
  <dcterms:modified xsi:type="dcterms:W3CDTF">2012-01-12T15:35:38Z</dcterms:modified>
  <cp:revision>4</cp:revision>
  <dc:subject/>
  <dc:title>“The Scarlet Letter”   </dc:title>
</cp:coreProperties>
</file>